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9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D6D-2846-4C7F-8CEC-230EDB49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CBC-6794-4403-A484-7F9B43C8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949-58CB-44D6-BEB8-2711F8CB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046-C023-418E-8116-B2575FAF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93D-990F-486F-A59C-87D540F7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719-03E2-4D99-8ABC-C528FA2E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781-801B-4DF7-A48B-8D32B7DA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ACD-97D8-4969-8F64-43CCE699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D15-F03E-422F-BDDC-CE1CC003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C87-E361-484D-A1C9-40291141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EBD-5746-45DB-A2B9-25959AA7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E49-1661-4A85-9607-178735AE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A787-3C0A-4532-B18F-F56D41A50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114440" y="4419720"/>
            <a:ext cx="4724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Крылова Ирина Валенти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БОУ ООШ с. Старый Буян муниципального района Краснояр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амарск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124080" y="1600200"/>
            <a:ext cx="56390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«Поле Чудес»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327636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неклассное    меро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33249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 теме «Рыб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етий ту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ыба имеет удлиненное тело, слегка сжатое с боков, покрыто мелкой чешуей. Голова небольшая, вытянутая вперед. Рот обращен книзу и окружен 10 усиками, из которых четыре наиболее короткие находятся на верхней челюсти, два – в углах рта и четыре – на нижней челю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а маленькие, расположены у самого лба, желтые. Плавники маленькие, хвостовой закруглен. Окраска зависит от условий обитания. Спина бурая с многочисленными мелкими темными пятнами, брюшко желтоватое и также пятнистое. Посредине тела расположена широкая темная полоса, а выше и ниже нее – по одной более узкой и короткой. Плавники коричневые, спинной и хвостовой – усеяны темными пят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 рыба похожая на зме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зывается эта рыб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543800" y="5029200"/>
            <a:ext cx="1295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fffff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ЬЮ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гра со зрителя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типичный представитель карповых рыб. Существуют два вида рыб: золотой (обыкновенный, круглый) и серебряный. «Золотая рыбка» водится в  водоемах европейской части России, в озерах и реках Сибири — от Оби до Лены. Еще шире распространена  серебряная рыба: кроме водоемов европейской части встречается в реках и озерах от Оби до Колымы, в  реках бассейна Тихого  океана, на Сахалине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на «золотой рыбки» обычно темно-коричневого цвета с зеленоватым отливом, бока темно-золотистые,  иногда с красноватым  оттенком. Парные плавники  слегка красноваты. Обитает он преимущественно в  замкнутых  водоемах — озерах, прудах, глиняных и торфяных  карьерах, постоянно заполненных водой ямах, болотах, иногда встречаются в ре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«золотая рыбка» живёт в наших водоём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5486400"/>
            <a:ext cx="990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fffff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Р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 rot="439200">
            <a:off x="304560" y="2514600"/>
            <a:ext cx="4800600" cy="4108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74800">
            <a:off x="5257800" y="2362320"/>
            <a:ext cx="36576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на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ло рыбы вытянуто в длину, профиль спины и брюха почти прямой, рот конечный. На краю жаберной крышки многочисленные шипы. Спинной плавник низкий и длинный, мощные грудные плав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новная окраска тела от серо-коричневой до серо-зеленой, есть оранжевые экземпляры. Спина темнее, брюхо желтоватое. При возбуждении окраска темнеет и появляются темные поперечные полосы. Плавники оранжевые или краснова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самца более яркая окраска. Самка полнее, особенно в области брюх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ыбы хищные, пугливые, довольно драчливы, более активны в вечерние и ночные часы. Покидают высыхающие водоемы и переползают по суше в поисках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ая рыба может передвигаться по земл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0120" y="5410080"/>
            <a:ext cx="12189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fffff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ЛЗУ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упер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ая распространенная рыба пресноводных водоемов России. Водится в бассейнах Северного Ледовитого океана,  Балтийского, Черного, Азовского, Каспийского и Аральского морей, в Байкале. Он живет в самых различных водоемах: реках, речках, проточных прудах, озерах, водохранилищах и даже в  солоноватой воде, а также в озерах на высоте более 1000 м  над уровнем моря.  Его не найти, пожалуй, только в  холодных и быстрых горных реках. Эта рыба считается одной из самых красивых рыб. Он  окрашен ярко и со вкусом: общий тон  зеленовато-желтый, по бокам — 5—9 поперечных полос; грудные  плавники желтые, первый  спинной — сизый, второй —  зеленовато-желтый, остальные — красные; глаза оранже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ворят, что эта рыба  носит тельня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91520" y="5257800"/>
            <a:ext cx="1447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Цель: 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здать условия для развития общеинтеллектуальных умений на материале, дополняющем школьную программу, с формированием навыков саморазвития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учить владеть полученной суммой знаний, применяя их в нестандартных ситуациях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Формировать умение работать в коллективе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витие познавательного интереса к рыбам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оспитывать любовь к знаниям, к рыб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26668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fffff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КУ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4648320" cy="4191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495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Прямоугольник 1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8153640" cy="3124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24080" y="228600"/>
            <a:ext cx="2819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5120"/>
            <a:ext cx="8077320" cy="19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РИЛО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рские рыбы с хрящевым скелетом, рядом жаберных щелей по бокам головы, вооруженным множеством острых зубов ртом, вытянутым телом с неравнобоким хвостом. Они распространены очень широко: обитают в прибрежных и открытых водах, некоторые в реках (например, в Амазонке, Ганге), океанах. Большинство рыб живородящие, некоторые откладывают яйца. Почти все рыбы - хищники. Питаются рыбами, донными беспозвоночными, иглокожими, моллюсками, червями. Иногда нападают на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 называется эта хищная рыб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-84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1055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fffff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КУ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России водится самая большая из пресноводных рыб. Она хищная, живёт в глубоких местах и только ночью выплывает на мель для охот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называется эта рыб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90920" y="403848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4648320" cy="4267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434340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вы знаете о рыба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Прямоугольник 10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85345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вый ту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Какая рыба чаще всего живёт в норах? Это очень странная рыба, у него все не так, как у всех остальных наших рыб. Например, его  интересует свет, но не яркий, а  рассеянный.  Он вообще избегает интенсивного света — прячется под плотами и наплавными мостами, где есть  тень. 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10280" y="4876920"/>
            <a:ext cx="1524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2131200">
            <a:off x="5020920" y="3292200"/>
            <a:ext cx="3732120" cy="2560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4952880" cy="4495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fffff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НАЛИ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торой ту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ыба  относится к хрящевым. У нее не костный, а хрящевой скелет, отсутствуют жаберные крышки и плавательный пузы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а электрическая рыба использует своё грозное оружие главным образом для того, чтобы убивать добычу и, конечно, для обороны. Надёжное оружие существенно облегчает охоту. В желудках электрических рыб находили рыб до 1,5 килограмма, которых они убивали с помощью электрических разрядов. Сами электрические рыбы легко переносят ток такой силы, который для других рыб смерте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ая рыба убивает током свою жертв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848720" y="5029200"/>
            <a:ext cx="1295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fffff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289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3276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297180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S</cp:lastModifiedBy>
  <dcterms:modified xsi:type="dcterms:W3CDTF">2013-08-04T16:40:49Z</dcterms:modified>
  <cp:revision>11</cp:revision>
  <dc:subject/>
  <dc:title>поле чуде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